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6.gif" ContentType="image/gif"/>
  <Override PartName="/ppt/media/image23.jpeg" ContentType="image/jpeg"/>
  <Override PartName="/ppt/media/image22.wmf" ContentType="image/x-wmf"/>
  <Override PartName="/ppt/media/image19.gif" ContentType="image/gif"/>
  <Override PartName="/ppt/media/image17.jpeg" ContentType="image/jpeg"/>
  <Override PartName="/ppt/media/image14.png" ContentType="image/png"/>
  <Override PartName="/ppt/media/camera.wav" ContentType="audio/x-wav"/>
  <Override PartName="/ppt/media/image21.jpeg" ContentType="image/jpeg"/>
  <Override PartName="/ppt/media/image13.gif" ContentType="image/gif"/>
  <Override PartName="/ppt/media/image16.jpeg" ContentType="image/jpeg"/>
  <Override PartName="/ppt/media/image20.png" ContentType="image/png"/>
  <Override PartName="/ppt/media/image18.png" ContentType="image/png"/>
  <Override PartName="/ppt/media/image15.gif" ContentType="image/gi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AEB-8EFE-428B-9FCC-DC21AA41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463-732B-4F31-A06F-57678A03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022-2835-4AFA-B872-F4BDDA21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20F-4AAD-43DA-81C0-5AFBCB44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03A-D89D-4D91-9C74-00E35A12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ED2-D82E-4274-8B24-F7A0CF67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789-7908-40EF-B726-5A48DD94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4C4-E9FD-40BA-AD7C-9A9F2830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D62-018B-4784-86EE-86F58D23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BAC-3B09-4076-AF16-4493EFB8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E0D-081E-472C-A953-35811B0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152-FAC8-442D-98FA-282ABB9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148B-074A-4047-BE93-EA5EC3D4C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6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0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5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" Target="slide2.xm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image" Target="../media/image13.gif"/><Relationship Id="rId4" Type="http://schemas.openxmlformats.org/officeDocument/2006/relationships/slide" Target="slide2.xm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ars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666880" cy="2408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144792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O CO N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3429000"/>
            <a:ext cx="7543800" cy="23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aszyny prost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791320"/>
            <a:ext cx="3353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248520"/>
            <a:ext cx="3597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Zurich Ex BT"/>
              </a:rPr>
              <a:t>Teresa Ostropolska-Kurcek</a:t>
            </a:r>
            <a:r>
              <a:rPr b="1" lang="en-US" sz="1800" spc="-1" strike="noStrike" u="sng">
                <a:solidFill>
                  <a:srgbClr val="663300"/>
                </a:solidFill>
                <a:uFillTx/>
                <a:latin typeface="Zurich Ex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df"/>
            </a:gs>
            <a:gs pos="50000">
              <a:srgbClr val="ffcc99"/>
            </a:gs>
            <a:gs pos="100000">
              <a:srgbClr val="feee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WARUNEK RÓWNOWAGI DŹWIGNI DWUSTRON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 Narrow"/>
              </a:rPr>
              <a:t>Iloczyn długości jednego ramienia i wartości siły działającej na to ramię jest równy iloczynowi długości drugiego ramienia i wartości siły działającej na to ramię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pl-PL" sz="4800" spc="-1" strike="noStrike">
                <a:solidFill>
                  <a:srgbClr val="cc3300"/>
                </a:solidFill>
                <a:latin typeface="Arial Narrow"/>
              </a:rPr>
              <a:t>r</a:t>
            </a:r>
            <a:r>
              <a:rPr b="1" lang="pl-PL" sz="2800" spc="-1" strike="noStrike">
                <a:solidFill>
                  <a:srgbClr val="cc3300"/>
                </a:solidFill>
                <a:latin typeface="Arial Narrow"/>
              </a:rPr>
              <a:t>1</a:t>
            </a:r>
            <a:r>
              <a:rPr b="1" lang="pl-PL" sz="4800" spc="-1" strike="noStrike">
                <a:solidFill>
                  <a:srgbClr val="cc3300"/>
                </a:solidFill>
                <a:latin typeface="Arial Narrow"/>
              </a:rPr>
              <a:t> * F</a:t>
            </a:r>
            <a:r>
              <a:rPr b="1" lang="pl-PL" sz="2800" spc="-1" strike="noStrike">
                <a:solidFill>
                  <a:srgbClr val="cc3300"/>
                </a:solidFill>
                <a:latin typeface="Arial Narrow"/>
              </a:rPr>
              <a:t>1</a:t>
            </a:r>
            <a:r>
              <a:rPr b="1" lang="pl-PL" sz="4800" spc="-1" strike="noStrike">
                <a:solidFill>
                  <a:srgbClr val="cc3300"/>
                </a:solidFill>
                <a:latin typeface="Arial Narrow"/>
              </a:rPr>
              <a:t> = r</a:t>
            </a:r>
            <a:r>
              <a:rPr b="1" lang="pl-PL" sz="2800" spc="-1" strike="noStrike">
                <a:solidFill>
                  <a:srgbClr val="cc3300"/>
                </a:solidFill>
                <a:latin typeface="Arial Narrow"/>
              </a:rPr>
              <a:t>2</a:t>
            </a:r>
            <a:r>
              <a:rPr b="1" lang="pl-PL" sz="4800" spc="-1" strike="noStrike">
                <a:solidFill>
                  <a:srgbClr val="cc3300"/>
                </a:solidFill>
                <a:latin typeface="Arial Narrow"/>
              </a:rPr>
              <a:t> * F</a:t>
            </a:r>
            <a:r>
              <a:rPr b="1" lang="pl-PL" sz="2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door" descr=""/>
          <p:cNvPicPr/>
          <p:nvPr/>
        </p:nvPicPr>
        <p:blipFill>
          <a:blip r:embed="rId1"/>
          <a:stretch/>
        </p:blipFill>
        <p:spPr>
          <a:xfrm>
            <a:off x="533520" y="59436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a50021"/>
                </a:solidFill>
                <a:uFillTx/>
                <a:latin typeface="BankGothic Md BT"/>
              </a:rPr>
              <a:t>Dźwignia jednostron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66920" y="167616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legro BT"/>
              </a:rPr>
              <a:t>  </a:t>
            </a:r>
            <a:r>
              <a:rPr b="0" lang="en-US" sz="3200" spc="-1" strike="noStrike">
                <a:solidFill>
                  <a:srgbClr val="a50021"/>
                </a:solidFill>
                <a:latin typeface="BankGothic Md BT"/>
              </a:rPr>
              <a:t>jest wtedy gdy siły działają po jednej stronie osi obro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djs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5639040" cy="4960800"/>
          </a:xfrm>
          <a:prstGeom prst="rect">
            <a:avLst/>
          </a:prstGeom>
          <a:ln w="0">
            <a:noFill/>
          </a:ln>
        </p:spPr>
      </p:pic>
      <p:pic>
        <p:nvPicPr>
          <p:cNvPr id="100" name="door" descr=""/>
          <p:cNvPicPr/>
          <p:nvPr/>
        </p:nvPicPr>
        <p:blipFill>
          <a:blip r:embed="rId3"/>
          <a:stretch/>
        </p:blipFill>
        <p:spPr>
          <a:xfrm>
            <a:off x="5638680" y="6019920"/>
            <a:ext cx="389160" cy="37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99"/>
                </a:solidFill>
                <a:latin typeface="Century Gothic"/>
              </a:rPr>
              <a:t>DŹWIGNIA JEDNOSTRONN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to sztywna belka, która może obracać się wokół osi obrotu.  W odróżnieniu od dźwigni dwustronnej w tym przypadku na belkę działają siły po jednej stronie osi obro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8840" y="28195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 Black"/>
              </a:rPr>
              <a:t>Przykłady zastosowa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tacz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ł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rę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odnośnik samocho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dzwignia%20jednostronna" descr=""/>
          <p:cNvPicPr/>
          <p:nvPr/>
        </p:nvPicPr>
        <p:blipFill>
          <a:blip r:embed="rId1"/>
          <a:stretch/>
        </p:blipFill>
        <p:spPr>
          <a:xfrm>
            <a:off x="685800" y="2593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104" name="door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89160" cy="37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3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50000">
              <a:srgbClr val="ffffff"/>
            </a:gs>
            <a:gs pos="100000">
              <a:srgbClr val="9e9e9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99"/>
                </a:solidFill>
                <a:uFillTx/>
                <a:latin typeface="DextorOutD"/>
              </a:rPr>
              <a:t>Równia pochył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0" y="2666520"/>
            <a:ext cx="3581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a50021"/>
                </a:solidFill>
                <a:latin typeface="Haettenschweiler"/>
              </a:rPr>
              <a:t> </a:t>
            </a:r>
            <a:r>
              <a:rPr b="0" i="1" lang="en-US" sz="4000" spc="-1" strike="noStrike">
                <a:solidFill>
                  <a:srgbClr val="000099"/>
                </a:solidFill>
                <a:latin typeface="Haettenschweiler"/>
              </a:rPr>
              <a:t>o wiele łatwiej jest wejść po łagodnym zboczu niż po stromym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sisyphus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3048120" cy="2571840"/>
          </a:xfrm>
          <a:prstGeom prst="rect">
            <a:avLst/>
          </a:prstGeom>
          <a:ln w="0">
            <a:noFill/>
          </a:ln>
        </p:spPr>
      </p:pic>
      <p:pic>
        <p:nvPicPr>
          <p:cNvPr id="108" name="door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89160" cy="37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d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ównia pochyła to nachylona pod pewnym kątem „desk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ciągając klocek po równi, działamy mniejszą siłą niż podnosząc go  pionowo do gór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le pokonujemy dłuższą drogę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door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112" name="równia%20pochyła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7848720" cy="2368440"/>
          </a:xfrm>
          <a:prstGeom prst="rect">
            <a:avLst/>
          </a:prstGeom>
          <a:ln w="0">
            <a:noFill/>
          </a:ln>
        </p:spPr>
      </p:pic>
      <p:pic>
        <p:nvPicPr>
          <p:cNvPr id="113" name="reply" descr=""/>
          <p:cNvPicPr/>
          <p:nvPr/>
        </p:nvPicPr>
        <p:blipFill>
          <a:blip r:embed="rId3"/>
          <a:stretch/>
        </p:blipFill>
        <p:spPr>
          <a:xfrm>
            <a:off x="1295280" y="3581280"/>
            <a:ext cx="27468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a50021"/>
                </a:solidFill>
                <a:uFillTx/>
                <a:latin typeface="BankGothic Md BT"/>
              </a:rPr>
              <a:t>Kołowró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służy do podnoszenia i opuszczania ładunku zawieszonego na linie przez nawijanie jej na obracający się wał, napędzany korbą</a:t>
            </a:r>
            <a:r>
              <a:rPr b="0" lang="en-US" sz="3600" spc="-1" strike="noStrike">
                <a:solidFill>
                  <a:srgbClr val="a50021"/>
                </a:solidFill>
                <a:latin typeface="AvantGarde Bk B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05520" y="2438280"/>
          <a:ext cx="3809880" cy="34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438280"/>
                    <a:ext cx="38098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door" descr=""/>
          <p:cNvPicPr/>
          <p:nvPr/>
        </p:nvPicPr>
        <p:blipFill>
          <a:blip r:embed="rId4"/>
          <a:stretch/>
        </p:blipFill>
        <p:spPr>
          <a:xfrm>
            <a:off x="7924680" y="1066680"/>
            <a:ext cx="389160" cy="37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Umbra BT"/>
              </a:rPr>
              <a:t>BLOK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ieruchomy – nie zmienia wartości sił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Ruchomy – pozwala „zaoszczędzić” na s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981080"/>
            <a:ext cx="160020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886200"/>
            <a:ext cx="1523880" cy="15238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8195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34340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4572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4724280"/>
            <a:ext cx="0" cy="1371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50292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XBlk BT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5715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XBlk BT"/>
              </a:rPr>
              <a:t>2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81080" y="16761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343400" y="16761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door" descr=""/>
          <p:cNvPicPr/>
          <p:nvPr/>
        </p:nvPicPr>
        <p:blipFill>
          <a:blip r:embed="rId2"/>
          <a:stretch/>
        </p:blipFill>
        <p:spPr>
          <a:xfrm>
            <a:off x="8001000" y="990720"/>
            <a:ext cx="388800" cy="377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4572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5105520"/>
            <a:ext cx="0" cy="533160"/>
          </a:xfrm>
          <a:prstGeom prst="line">
            <a:avLst/>
          </a:prstGeom>
          <a:ln w="3816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219320" y="4723920"/>
            <a:ext cx="0" cy="381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imini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2666520"/>
            <a:ext cx="7086600" cy="3962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Verdana"/>
              </a:rPr>
              <a:t>Maszyny proste nie zmniejszają prac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Verdana"/>
              </a:rPr>
              <a:t>Można ją tylko wykonać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3399ff"/>
                </a:solidFill>
                <a:latin typeface="Verdana"/>
              </a:rPr>
              <a:t>działając mniejszą sił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3399ff"/>
                </a:solidFill>
                <a:latin typeface="Verdana"/>
              </a:rPr>
              <a:t>na dłuższej drodz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914400"/>
            <a:ext cx="7467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yznanie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door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388800" cy="37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000000"/>
              </a:solidFill>
              <a:latin typeface="Voltag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3300"/>
                </a:solidFill>
                <a:latin typeface="Arial Narrow"/>
              </a:rPr>
              <a:t>Z jaką siłą trzeba obracać korbą kołowrotu, aby wyciągnąć ze studni wiadro z wodą o masie 10 kg. Średnica wału wynosi      20 cm, a długość korby 30 c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6600"/>
                </a:solidFill>
                <a:latin typeface="Arial Narrow"/>
              </a:rPr>
              <a:t>Beczkę o masie 150 kg należy podnieść na wysokość 1,2 m. Jaką siłą należy działać, aby wtoczyć ją po równi pochyłej          o długości 3 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b277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b27700"/>
                </a:solidFill>
                <a:latin typeface="Arial Narrow"/>
              </a:rPr>
              <a:t>Dwaj bracia chcą zbudować huśtawkę. Mają mocną deskę o długości 2 m i okrągły pieniek. Ciężar jednego z braci wynosi 400 N, a drugiego 200 N. Gdzie powinni umieścić punkt podparcia, aby huśtawka była w równowadz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9900"/>
                </a:solidFill>
                <a:latin typeface="Arial Narrow"/>
              </a:rPr>
              <a:t>Jaką siłą musi działać murarz, aby za pomocą bloczka ruchomego podnieść wiadro z cementem o masie 20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90720" y="4572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prawdzenie wiedzy.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6" name="door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388800" cy="37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Narrow"/>
              </a:rPr>
              <a:t>Spis treści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ele operacyj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prowadzenie: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                 -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trochę histori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przykłady zastosowań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o Archimedesi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Dźwignia dwustron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   -co to j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budowa i zastosowani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-warunek równowag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Dźwignia jednostron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   -co to j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-budowa i zastosowani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Kołowró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Równia pochył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   -co to j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-jak działa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Blo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dsumowa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d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Uczeń w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jakie są rodzaje maszyn prost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~jaka jest budowa dźwigni dwustronnej i jednostronnej, równi pochyłej, bloków i kołowrot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~jaki jest warunek równowagi dźwigni dwustronnej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~jaka jest rola maszyn prostych w życiu codziennym i jakie jest ich praktyczne wykorzysta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Uczeń um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skazać maszyny proste w różnych urządzenia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~wyjaśnić stwierdzenie, że stosując maszyny proste nie zyskujemy na prac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~rozwiązywać zadania z zastosowaniem warunków równowagi dla maszyn prost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14600" y="0"/>
            <a:ext cx="640080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ele operacyjne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door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388800" cy="377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erwotny%20z%20dzwignia" descr=""/>
          <p:cNvPicPr/>
          <p:nvPr/>
        </p:nvPicPr>
        <p:blipFill>
          <a:blip r:embed="rId1"/>
          <a:srcRect l="900" t="29052" r="6808" b="10721"/>
          <a:stretch/>
        </p:blipFill>
        <p:spPr>
          <a:xfrm>
            <a:off x="228600" y="3200400"/>
            <a:ext cx="830592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isse ITC"/>
              </a:rPr>
              <a:t>Od najdawniejszych czasów przy wykonywaniu pracy mechanicznej człowiek posługuje się różnymi przedmiotami i przyrządami.W najprostszym przypadku może być w tym celu wykorzystany dostatecznie długi i mocny kij, użyty jako </a:t>
            </a:r>
            <a:r>
              <a:rPr b="0" lang="en-US" sz="3200" spc="-1" strike="noStrike">
                <a:solidFill>
                  <a:srgbClr val="a50021"/>
                </a:solidFill>
                <a:latin typeface="Matisse ITC"/>
              </a:rPr>
              <a:t>dźwig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door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040" y="2971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ithograph"/>
              </a:rPr>
              <a:t>dźwigni i inny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ithograp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97180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maszyn    pro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0574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Zasadę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działani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9625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wykorzystywali ju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4956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budowniczowie pirami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w starożytnym            Egip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56272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wiele wiele tysięcy lat  te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oor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5105520"/>
            <a:ext cx="388800" cy="37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wo równowagi dźwigni zostało odkryte przez Archimedesa w III w.p.n.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oman_speaker_md_clr" descr=""/>
          <p:cNvPicPr/>
          <p:nvPr/>
        </p:nvPicPr>
        <p:blipFill>
          <a:blip r:embed="rId2"/>
          <a:stretch/>
        </p:blipFill>
        <p:spPr>
          <a:xfrm>
            <a:off x="304920" y="3619440"/>
            <a:ext cx="2979720" cy="3238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71600" y="2133720"/>
            <a:ext cx="4191120" cy="1676160"/>
          </a:xfrm>
          <a:prstGeom prst="cloudCallout">
            <a:avLst>
              <a:gd name="adj1" fmla="val -26592"/>
              <a:gd name="adj2" fmla="val 70361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thograph"/>
              </a:rPr>
              <a:t>„</a:t>
            </a:r>
            <a:r>
              <a:rPr b="0" lang="en-US" sz="2400" spc="-1" strike="noStrike">
                <a:solidFill>
                  <a:srgbClr val="000066"/>
                </a:solidFill>
                <a:latin typeface="Gaze"/>
              </a:rPr>
              <a:t>Dajcie mi punkt podparcia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Gaze"/>
              </a:rPr>
              <a:t>a poruszę Ziemię</a:t>
            </a:r>
            <a:r>
              <a:rPr b="0" lang="en-US" sz="2000" spc="-1" strike="noStrike">
                <a:solidFill>
                  <a:srgbClr val="000000"/>
                </a:solidFill>
                <a:latin typeface="Lithograph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door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304920"/>
            <a:ext cx="388800" cy="37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47560" y="1828440"/>
            <a:ext cx="2819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nożycz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5400000">
            <a:off x="-2323800" y="285732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Maszyny pros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121932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obcę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53352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lam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510552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huśtaw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297180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w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2860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ł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274320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sieki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57150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nó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541008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tacz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4191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sek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198108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ierow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380988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lucz francus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68580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dziadek do orzech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32767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kołowró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48006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przekład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209680"/>
            <a:ext cx="5257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a50021"/>
                </a:solidFill>
                <a:latin typeface="Georgia"/>
              </a:rPr>
              <a:t>I wiele innych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door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248520"/>
            <a:ext cx="388800" cy="37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urier New"/>
              </a:rPr>
              <a:t>Dźwignia dwustron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to sztywna belka na którą działają siły po obu stronach osi obro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alker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16002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88" name="doo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29600" y="609588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e3feda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6600"/>
                </a:solidFill>
                <a:latin typeface="Century Gothic"/>
              </a:rPr>
              <a:t>DŹWIGNIA DWUSTRONNA</a:t>
            </a:r>
            <a:r>
              <a:rPr b="0" lang="pl-PL" sz="3200" spc="-1" strike="noStrike">
                <a:solidFill>
                  <a:srgbClr val="006600"/>
                </a:solidFill>
                <a:latin typeface="Century Gothic"/>
              </a:rPr>
              <a:t>                  </a:t>
            </a:r>
            <a:r>
              <a:rPr b="1" lang="pl-PL" sz="3200" spc="-1" strike="noStrike">
                <a:solidFill>
                  <a:srgbClr val="006600"/>
                </a:solidFill>
                <a:latin typeface="Century Gothic"/>
              </a:rPr>
              <a:t>to sztywna belka, która może obracać się wokół osi obrotu</a:t>
            </a:r>
            <a:r>
              <a:rPr b="1" lang="pl-PL" sz="3200" spc="-1" strike="noStrike">
                <a:solidFill>
                  <a:srgbClr val="ffffcc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entury Gothic"/>
              </a:rPr>
              <a:t>Przykłady zastosowania dźwigni dwustronnej</a:t>
            </a:r>
            <a:r>
              <a:rPr b="1" lang="en-US" sz="2800" spc="-1" strike="noStrike">
                <a:solidFill>
                  <a:srgbClr val="00660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entury Gothic"/>
              </a:rPr>
              <a:t>waga laboratoryj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entury Gothic"/>
              </a:rPr>
              <a:t>huśtaw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entury Gothic"/>
              </a:rPr>
              <a:t>noży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entury Gothic"/>
              </a:rPr>
              <a:t>sek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entury Gothic"/>
              </a:rPr>
              <a:t>obcę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zwignia2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door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715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93" name="reply" descr=""/>
          <p:cNvPicPr/>
          <p:nvPr/>
        </p:nvPicPr>
        <p:blipFill>
          <a:blip r:embed="rId4"/>
          <a:stretch/>
        </p:blipFill>
        <p:spPr>
          <a:xfrm>
            <a:off x="7543800" y="5791320"/>
            <a:ext cx="27468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8:33:17Z</dcterms:created>
  <dc:creator>aa</dc:creator>
  <dc:description/>
  <dc:language>en-US</dc:language>
  <cp:lastModifiedBy>aa</cp:lastModifiedBy>
  <dcterms:modified xsi:type="dcterms:W3CDTF">2002-11-28T18:34:40Z</dcterms:modified>
  <cp:revision>35</cp:revision>
  <dc:subject/>
  <dc:title>Prezentacja programu PowerPoint</dc:title>
</cp:coreProperties>
</file>